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8A6F-86C8-43F7-8F98-5F9E7F76EB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4AF5-A059-4FB6-BEF7-B3361E638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193-66F6-44D5-936A-E39ACA4135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933-24FF-4257-98A8-58A4726F2A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E499-7C0E-4459-9537-4C1206F46D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B58-A22C-42E1-AB2C-0E58820593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C7F-2674-46D5-96F7-0DE0A4A4F3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3B04-907B-4521-A03F-3391F5EFAA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7731-0A16-474F-8412-E026631F0E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AA1-22CE-4445-A6D7-84D518D9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9B0-CBF1-4E86-92CD-C5027F26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A98-E265-4893-8E99-BA0684A9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42B-9F58-473D-BCDC-0945DA8C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570-B470-4903-8B3D-E97932B2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B12-4072-4034-8B2F-D919E68E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685-EB4A-4022-8846-E2200CE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D02-E01B-4527-85D3-490C27FF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2F4-23E9-4E7B-ABE7-185C45FE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898-211C-4157-9837-717A88A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74D-6FA5-4C2D-BFE9-4BCE822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CE0-7F73-456F-8C7D-54F5D8F5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9707-9998-45D5-B662-C23C8823F6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Инсерционное моделирование 2</a:t>
            </a:r>
            <a:br>
              <a:rPr sz="2800"/>
            </a:br>
            <a:br>
              <a:rPr sz="3200"/>
            </a:br>
            <a:r>
              <a:rPr b="1" lang="ru-RU" sz="2000" spc="-1" strike="noStrike">
                <a:solidFill>
                  <a:srgbClr val="cc0066"/>
                </a:solidFill>
                <a:latin typeface="Times New Roman"/>
              </a:rPr>
              <a:t>Лекция 1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4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Символьный прувер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219320" y="500076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schum.kiev.ua/let/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75280" y="42876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91966"/>
                </a:solidFill>
                <a:latin typeface="Times New Roman"/>
              </a:rPr>
              <a:t>23 </a:t>
            </a:r>
            <a:r>
              <a:rPr b="0" i="1" lang="ru-RU" sz="1600" spc="-1" strike="noStrike">
                <a:solidFill>
                  <a:srgbClr val="191966"/>
                </a:solidFill>
                <a:latin typeface="Times New Roman"/>
              </a:rPr>
              <a:t>Декабря 2009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4F0-2A17-41E9-8DE7-EC63649272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642960"/>
            <a:ext cx="4286160" cy="56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prove_sym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=proc(F)loc(A,B,t,G,x)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ct_quantifiers F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(F,Exist x G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-&gt;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--&gt;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dn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else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("\nprove symbolic, no quantifiers"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_ent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--&gt;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narrow_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xist x G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rate_case_let F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|/B-&gt;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prove_con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(verdict, proved)-&gt;return 1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--&gt;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&gt;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prove_c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 A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(verdict, proved)-&gt;return 1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72040" y="2071800"/>
            <a:ext cx="3714840" cy="25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prove_con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=proc(A)loc(t)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:=get_type_formula(A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_let t(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-&gt;Prove(A,int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&gt;Prove(A,real);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_real-&gt;Prove(A,int_real);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-&gt;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prove_symb_con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ounded Rectangular Callout 4"/>
          <p:cNvSpPr/>
          <p:nvPr/>
        </p:nvSpPr>
        <p:spPr>
          <a:xfrm>
            <a:off x="5286240" y="642960"/>
            <a:ext cx="1857600" cy="612720"/>
          </a:xfrm>
          <a:prstGeom prst="wedgeRoundRectCallout">
            <a:avLst>
              <a:gd name="adj1" fmla="val -233138"/>
              <a:gd name="adj2" fmla="val 1278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абое место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573E-AA43-4DF1-BB5A-A8ADFACCDA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857160" y="285840"/>
            <a:ext cx="4286520" cy="629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prove_symb_con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=proc(E)loc(x,s,t,n,X,P,Q,R,S)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_quantifiers E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(E,Exist x E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_let E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-&gt;(verdict:=refuted;return 0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&gt;(verdict:=proved;return 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x is a list of variables (x1,...,xn),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E=E(x1,...,xn) propositional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-&gt;make_valuation_subs x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(s,(s,n)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 s=(x1=V 1,...,xn=V n), n=length of the list 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-&gt;set_Nil node(armrk,n);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 X=array(Nil,...Nil), ART(X)=n 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-&gt;separate_symb_num(E);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-&gt;subs(s,E);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 E=E(V 1,...,V n) 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(E,(P,Q,R)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 ---------------------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 -- equalities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Q -- disequaliti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R -- inequaliti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F is satisfiable &lt;=&gt; P&amp;Q&amp;R is satisfiabl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umeric equations are specified as numeric(x=y)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--------------------- 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-&gt;(X,P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s(X,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eliminate_symb_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--&gt;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not_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X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t=0&lt;=&gt;V 1=X(1),...,V n=X(n) is a solution of a system P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X(i)=Nil means that it can be taken arbitrary value for V i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643280" y="928800"/>
            <a:ext cx="4143600" cy="447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-&gt;(verdict--&gt;refuted;return 0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 X=array(t1,...,tn),ti=Nil if the value is any 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--&gt;subs_valuation(X,Q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-&gt;subs_valuation(X,R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-&gt;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eliminate_symb_neg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,s,Q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Q is satisfiable &lt;=&gt;S is satisfiable, S contains only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arithmetic disequaliti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S is a set of numeric inequalities or 1 or 0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*/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(S,0)-&gt;(verdict--&gt;refuted;return 0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-&gt;Can Exist x subs(inverse_subs s,turn_right(S&amp;R)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/* E is numeric, F is satisfiable&lt;=&gt;E is satisfiable */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_let E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-&gt;(verdict:=refuted;return 0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&gt;(verdict:=proved;return 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_numeric(E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0824-2F8A-495E-8D89-2EDD549432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85840" y="500040"/>
            <a:ext cx="4214880" cy="542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/*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specification: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Y=(X,E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X=array(u1,...un), E=E(V 1,...,V n) is a system of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symbolic-numeric equation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=&gt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[appls(Y,eliminate_symb_rs</a:t>
            </a:r>
            <a:r>
              <a:rPr b="1" lang="ru-RU" sz="1400" spc="-1" strike="noStrike">
                <a:solidFill>
                  <a:srgbClr val="cc00cc"/>
                </a:solidFill>
                <a:latin typeface="Times New Roman"/>
              </a:rPr>
              <a:t>)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Y is a solution of a system (V 1=u1,...,V n=un)&amp;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Definition: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Y is a solution ..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*/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eliminate_symb_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=rs(X,i,s,t,T)(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Nil                     ) = X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0                        ) = 0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1                        ) = X,   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(s = s)           &amp;T) = (X,T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numeric(s=t)&amp;T) = (X,</a:t>
            </a: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solve_numer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,t)&amp;T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(V i = t)        &amp;T) = </a:t>
            </a: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eliminate_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i,t,T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(t = V i)        &amp;T) = </a:t>
            </a: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eliminate_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i,t,T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(s = t  )         &amp;T) = make_symb_equ(X,s,t,T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(s = t  )               ) = (X,(s=t)&amp;Nil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numeric(s=t)     )  = (X,numeric(s=t)&amp;Nil)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760" y="285840"/>
            <a:ext cx="3286080" cy="28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nshift;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eliminate_v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=proc(X,i,t,T)loc(j,s,tt)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--&gt;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nshi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,i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(i,0)-&gt;return(0,0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_let (arg(X,i) = t)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l = V j) -&gt;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(i==j) -&gt; X i--&gt;V j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l = tt  ) -&gt; X i--&gt;t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s = tt  ) -&gt; 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--&gt;((s = tt)&amp;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(X,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143760" y="2620800"/>
            <a:ext cx="2857320" cy="22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nshi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=proc(X,i)loc(j,k)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_let(X i)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j-&gt;(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--&gt; _V j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-&gt;nshift(X,j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--&gt;V k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--&gt;k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V j-&gt;i: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i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6DF3-ABB7-4705-9506-F9536C05E5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42920" y="214200"/>
            <a:ext cx="4714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olve_nume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proc(s,t)(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:=get_type 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:=get_type t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(ts,real)|/equ(tt,real)-&gt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olve_lin    (canpl(s+(-1)*t=0))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olve_lin_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npl(s+(-1)*t=0)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143080" y="2286000"/>
            <a:ext cx="457200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/*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Result V i=int(a,t) means that a*V i=t and must be taken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into account when substitution is made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*/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solve_lin_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=rs(x,y,z,i)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 i       + y = z) = (V i =       canpl( z+y $ (-1))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 i $ x + y = z) = (V i = int(x,canpl( z+y $ (-1)))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         x + y = z) = solve_lin_int(y = canpl(z+(-1) * x)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 i $ x       = 0) = (V i = 0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 i $ x       = z) = (V i = int(x,z)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 i             = z) = (V i=z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    x            = x) = (x = x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    x            = z) = 0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72040" y="4429080"/>
            <a:ext cx="3571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 i $ x       = z) = (V i = canpl((1/x)*z)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ounded Rectangular Callout 5"/>
          <p:cNvSpPr/>
          <p:nvPr/>
        </p:nvSpPr>
        <p:spPr>
          <a:xfrm>
            <a:off x="6429240" y="3286080"/>
            <a:ext cx="2071800" cy="571680"/>
          </a:xfrm>
          <a:prstGeom prst="wedgeRoundRectCallout">
            <a:avLst>
              <a:gd name="adj1" fmla="val -130564"/>
              <a:gd name="adj2" fmla="val 178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_valuat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383A-DF00-4D55-8191-3493D4FB4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28760" y="428760"/>
            <a:ext cx="45720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t_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proc(X)loc(t)(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(X,0)-&gt;return 1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--&gt;admissible X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(t)-&gt;return 1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2714760"/>
            <a:ext cx="4286160" cy="286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cc"/>
                </a:solidFill>
                <a:latin typeface="Times New Roman"/>
              </a:rPr>
              <a:t>/*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admissible X &lt;=&gt; no cycles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V i1 = si1(V i2), V i2 = si2(V i3),...,V ik=sik(V i1)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*/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missible:=proc(X)loc(Q,z,i)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all(z=arg(X,i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:=V i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-&gt;check_path(Q,X,z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(z,0)-&gt;return 0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214960" y="571680"/>
            <a:ext cx="29289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_path:=proc(Q,X,z)loc(i,u,Q)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(z,V i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-&gt;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:=mrg(~(V i)&amp;copy(Q)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(u,0)-&gt;return 0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--&gt;mrg(V i &amp; Q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-&gt;arg(X,i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-&gt;check_path(Q,X,z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z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else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all(u=arg(z,i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--&gt;check_path(Q,X,u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(u,0)-&gt;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F8BE-5F9D-4170-8CDF-FE3F786696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57120" y="285840"/>
            <a:ext cx="357192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t_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proc(X)loc(t)(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(X,0)-&gt;return 1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--&gt;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admis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(t)-&gt;return 1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714680" y="1643040"/>
            <a:ext cx="2714400" cy="17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missible:=proc(X)loc(Q,z,i)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all(z=arg(X,i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:=V i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-&gt;check_path(Q,X,z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(z,0)-&gt;return 0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714920" y="785880"/>
            <a:ext cx="328608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_path:=proc(Q,X,z)loc(i,u,Q)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(z,V i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-&gt;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:=mrg(~(V i)&amp;copy(Q)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(u,0)-&gt;return 0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--&gt;mrg(V i &amp; Q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-&gt;arg(X,i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-&gt;check_path(Q,X,z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z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else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all(u=arg(z,i)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--&gt;check_path(Q,X,u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(u,0)-&gt;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2CF5-54F0-41BA-B107-B9A488F8CB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14200" y="214200"/>
            <a:ext cx="642960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narrow_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proc(F)loc(A,B,x,y)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_let F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&amp;B -&gt;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-&gt;narrow_proc A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-&gt;narrow_proc B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&amp;B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|/B -&gt;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-&gt;narrow_proc A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-&gt;narrow_proc B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|/B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 x(A|/B)-&gt;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-&gt;narrow_proc Exist x A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-&gt;narrow_proc Exist x B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|/B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(x,y)A-&gt;return narrow_proc Exist x Exist y A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 x   A-&gt;return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collect_dep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1,narrow_proc A,1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143240" y="285840"/>
            <a:ext cx="4572000" cy="43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collect_depe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=proc(A)</a:t>
            </a: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s(A,collect_depend_rs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collect_depend_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=rs(x,A,B,C,D,E)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A,(B&amp;C)&amp;D,E) = (x,A,B&amp;C&amp;D,E)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end(x,B)-&gt;</a:t>
            </a: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A,B&amp;C,D) = (x,B&amp;A,C,D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A,B&amp;C,D) = (x,A,C,B&amp;D),  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end(x,B)-&gt;</a:t>
            </a: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A,B,D) = Exist x(B&amp;A)&amp;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1,   B,D) = B&amp;D,          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A|/C,B,D) =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arrow_proc Exist x A|/narrow_proc Exist x C)&amp;B&amp;D,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,A,   B,D) = Exist x A &amp;B&amp;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786280" y="4357800"/>
            <a:ext cx="31435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Invariant: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(var, depend, nnf, not depend)|/ nnf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arrowed normal for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248A-F541-48B8-8A70-1F2966A71C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1071720" y="142920"/>
            <a:ext cx="6143400" cy="59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/* X – Valuation, s=(x1=V 1,...,xn=V n), Q – disequations */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eliminate_symb_neg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proc(X,s,Q)loc(S,r,t,Y,P,x)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=1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_case_let Q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l-&gt;return S;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(r=t)&amp;x-&gt;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--&gt;(set_Nil(copy(X)),r=t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s(Y,eliminate_symb_rs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(not_solution(Y))-&gt;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(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-&gt;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get_numeric_diseq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Y,s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-&gt;P&amp;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--&gt;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-&gt;Q--&gt;x&amp;N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/*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Y is solution for r=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~(r=t)&lt;=&gt; ~(V1=t1&amp;...&amp;Vn=tn)&lt;=&gt; ~(V1=t1)|/...|/~(Vn=t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symbolic are 0, select numeric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*/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Олександр</cp:lastModifiedBy>
  <dcterms:modified xsi:type="dcterms:W3CDTF">2009-12-23T04:48:55Z</dcterms:modified>
  <cp:revision>643</cp:revision>
  <dc:subject/>
  <dc:title>Агенты, среды и проектирование программного обеспечения</dc:title>
</cp:coreProperties>
</file>