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1FC-9EE3-4B85-9712-442B9721B5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774-18E3-454E-8B01-78C56D7E0C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B2A1-491D-4EF5-8963-76C805150B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30E0-78F0-4210-9253-A9914A212C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822-466A-47DB-803B-4F7165B3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F59-EEE6-44DA-9AE3-7F4D58C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A97-F722-4BAF-90FB-7B7AB30A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3A1-C8D5-41AC-96FA-A68084C9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F8E-AFD7-4DEF-B97D-4877CCDA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2F4-F6EB-4F24-B214-77FF2072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1F8-D4E0-47F9-87C4-B786AAA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C31-6847-452E-BC18-D9273F71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5A5-2DC1-41EF-BF21-75F103E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24E-B8D2-4C0A-950F-969F9AF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F33-2120-41CA-AC7E-126A093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74E-32FA-48AA-BBCD-F61E50B4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664-9295-47E7-8D79-24623FE859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Инсерционное моделирование и верификация программ</a:t>
            </a:r>
            <a:br>
              <a:rPr sz="2800"/>
            </a:br>
            <a:br>
              <a:rPr sz="3200"/>
            </a:br>
            <a:r>
              <a:rPr b="1" lang="uk-UA" sz="2800" spc="-1" strike="noStrike">
                <a:solidFill>
                  <a:srgbClr val="c00000"/>
                </a:solidFill>
                <a:latin typeface="Times New Roman"/>
              </a:rPr>
              <a:t>Лекци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ратегии переписы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219680" y="7142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91966"/>
                </a:solidFill>
                <a:latin typeface="Times New Roman"/>
              </a:rPr>
              <a:t>3 Апреля </a:t>
            </a:r>
            <a:r>
              <a:rPr b="0" i="1" lang="en-US" sz="1600" spc="-1" strike="noStrike">
                <a:solidFill>
                  <a:srgbClr val="191966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D6E8-0126-4C65-96D8-32AF19D120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17146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ewriting system&gt; ::= rs(&lt;list of variables separated by ","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&lt;list of rules separated by "," 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ule&gt; ::= &lt;simple rule&gt; | &lt;conditional ru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mple rule&gt; ::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lgebraic expression&gt; = &lt;algebraic express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ditional rule&gt; ::= &lt;condition&gt; -&gt; &lt;simple ru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variable&gt; ::= &lt;identifi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71680" y="571680"/>
            <a:ext cx="77724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истемы переписывающих прав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00040" y="4572000"/>
            <a:ext cx="777240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Базовые стратегии переписы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plr  app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algebra of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468-B919-4C38-B94E-37C86AADBC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642960" y="385776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trat.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85880" y="1571760"/>
            <a:ext cx="7286400" cy="2043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nf: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cnf_dn, cnf_up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ратегия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an_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dnf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: dnf_dn, dnf_up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ратегия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an_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liminat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ратегия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is_id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, I1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ратегия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tb2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85920" y="5000760"/>
            <a:ext cx="6357960" cy="10688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е страте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еписывающая маш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Олександр</cp:lastModifiedBy>
  <dcterms:modified xsi:type="dcterms:W3CDTF">2009-08-31T08:24:07Z</dcterms:modified>
  <cp:revision>120</cp:revision>
  <dc:subject/>
  <dc:title>Агенты, среды и проектирование программного обеспечения</dc:title>
</cp:coreProperties>
</file>