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32BF-7360-4AB2-BB93-C456835F1E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0987-FDCE-41A4-B1DD-0E4A1005D7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159-B7B1-4CCD-8C80-921C0C80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C29-03F6-4CD2-AB13-3FB03B16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CD4-93D7-4019-91DA-E0CE38CC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914-553B-46AB-9765-FB6C757C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306-3782-43EE-81AC-8A3951B3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02E-02A8-4306-9895-400F8135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AF9-3209-4EC0-A879-7E7D4779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40F-27A4-4C50-BAC7-EC60F079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559-E18A-4BD4-8FFB-2794EDDA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15D-8D00-4FB0-8571-363DEDD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F66-B812-44F2-BBA1-0742FE3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E24-1BCE-448F-BE2F-7BD4409C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c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E1E4-9DC7-4B12-B6C1-154001121C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Алгебраическое программирование и </a:t>
            </a:r>
            <a:r>
              <a:rPr b="1" lang="uk-UA" sz="3200" spc="-1" strike="noStrike">
                <a:solidFill>
                  <a:srgbClr val="cc0066"/>
                </a:solidFill>
                <a:latin typeface="Times New Roman"/>
              </a:rPr>
              <a:t>инсерционное моделирование </a:t>
            </a:r>
            <a:br>
              <a:rPr sz="3200"/>
            </a:br>
            <a:br>
              <a:rPr sz="2400"/>
            </a:br>
            <a:r>
              <a:rPr b="1" lang="uk-UA" sz="2400" spc="-1" strike="noStrike">
                <a:solidFill>
                  <a:srgbClr val="cc0066"/>
                </a:solidFill>
                <a:latin typeface="Times New Roman"/>
              </a:rPr>
              <a:t> Лекция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8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/1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Функциональное программирование</a:t>
            </a:r>
            <a:endParaRPr b="1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3F33-90AC-42DD-BD01-67ABE5B5A5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066680"/>
            <a:ext cx="8077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P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(1977, J.Backus: Can programming be liberated from the von Neumann styl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: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:=1 step 1 until n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:=c+a[i]*b[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product = insert(+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ly To All(*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product((a[1],a[2],...),(b[1],b[2],..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никаких перем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CA10-1F6A-449F-9FB4-6848899C21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533520" y="1752480"/>
            <a:ext cx="7772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Kent Recursive Calculator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(David Turner,1981, lazy, pattern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ZF expressions, polymorphic ty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Функциональные типы: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int-&gt;int)-&gt;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Полиморфные типы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(X-&gt;int)-&gt;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 x | x &lt;- [0..], x^2&gt;3 ] 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list comprehen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список всех натуральных чисел, квадрат которых больше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917D-D590-42A6-9C0E-759711520A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33520" y="609480"/>
            <a:ext cx="777240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ISAL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treams and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terations in a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ingle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signment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anguage, 1983, James McGrow, Uni Manchester UK, developed for multiprocessors with automatic paralleliz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Miranda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D.Turner, 1985, successor of KRC and SISAL, pure, non stri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ury(1995, Zoltan Somogyi, for real world a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n (1995, Uni Nijmegen, Netherland, pure functional, high order, infinite data structures, rewri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lang (1998, Ericsson, strict, concurr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Haskell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(1998, integration and standardization of many languages, from Haskell Curry, successor of Miranda, rich language with lazy evaluation from 2002, pattern matching, high order, monad, concurrent implement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A8D0-0845-4B51-9FA6-FD437F6477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Times New Roman"/>
              </a:rPr>
              <a:t>Парадигмы программирования</a:t>
            </a:r>
            <a:endParaRPr b="1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Основные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Императивное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Функциональное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лгебраическое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Логическое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Высшие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Параллельное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императивное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Объектно-ориентированное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гентное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880" y="1371600"/>
            <a:ext cx="78487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Функциональное программ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5256-BFCA-4B7A-A397-43B503A562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609480" y="380880"/>
            <a:ext cx="78487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Синтакс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590920" y="1676520"/>
                <a:ext cx="335268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981080" y="3048120"/>
                <a:ext cx="12956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Text Box 5"/>
          <p:cNvSpPr/>
          <p:nvPr/>
        </p:nvSpPr>
        <p:spPr>
          <a:xfrm>
            <a:off x="1981080" y="4495680"/>
            <a:ext cx="236232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ипы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5029200" y="3581280"/>
                <a:ext cx="220968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Ξ</m:t>
                            </m:r>
                            <m:r>
                              <m:t xml:space="preserve">,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ξ</m:t>
                            </m:r>
                            <m:r>
                              <m:t xml:space="preserve">∈</m:t>
                            </m:r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ξ</m:t>
                            </m:r>
                            <m:r>
                              <m:t xml:space="preserve">∈</m:t>
                            </m:r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f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ξ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937D-D7F6-4E9B-818C-164A0230D3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Денотационная семантика</a:t>
            </a:r>
            <a:endParaRPr b="1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1214280" y="2214720"/>
            <a:ext cx="6629400" cy="2533320"/>
            <a:chOff x="1214280" y="2214720"/>
            <a:chExt cx="6629400" cy="2533320"/>
          </a:xfrm>
        </p:grpSpPr>
        <p:sp>
          <p:nvSpPr>
            <p:cNvPr id="62" name="Text Box 4"/>
            <p:cNvSpPr/>
            <p:nvPr/>
          </p:nvSpPr>
          <p:spPr>
            <a:xfrm>
              <a:off x="1214280" y="2214720"/>
              <a:ext cx="6629400" cy="2533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Times New Roman"/>
                </a:rPr>
                <a:t>Область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Times New Roman"/>
                </a:rPr>
                <a:t>Семантика константных выражений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Times New Roman"/>
                </a:rPr>
                <a:t>Семантика функций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Times New Roman"/>
                </a:rPr>
                <a:t>Наименьшая неподвижная точка функционал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Times New Roman"/>
                </a:rPr>
                <a:t>Неявное присутствие функционала второго поряд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5"/>
                <p:cNvSpPr txBox="1"/>
                <p:nvPr/>
              </p:nvSpPr>
              <p:spPr>
                <a:xfrm>
                  <a:off x="5481720" y="2519280"/>
                  <a:ext cx="11430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[</m:t>
                      </m:r>
                      <m:r>
                        <m:t xml:space="preserve">A</m:t>
                      </m:r>
                      <m:r>
                        <m:t xml:space="preserve">]</m:t>
                      </m:r>
                      <m:r>
                        <m:t xml:space="preserve">]</m:t>
                      </m:r>
                      <m:r>
                        <m:t xml:space="preserve">∈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6"/>
                <p:cNvSpPr txBox="1"/>
                <p:nvPr/>
              </p:nvSpPr>
              <p:spPr>
                <a:xfrm>
                  <a:off x="2890800" y="3510000"/>
                  <a:ext cx="3505320" cy="41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Object 7"/>
                <p:cNvSpPr txBox="1"/>
                <p:nvPr/>
              </p:nvSpPr>
              <p:spPr>
                <a:xfrm>
                  <a:off x="3652920" y="2786040"/>
                  <a:ext cx="2133360" cy="46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]</m:t>
                      </m:r>
                      <m:r>
                        <m:t xml:space="preserve">]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p>
                      </m:sSup>
                      <m:r>
                        <m:t xml:space="preserve">→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Object 8"/>
                <p:cNvSpPr txBox="1"/>
                <p:nvPr/>
              </p:nvSpPr>
              <p:spPr>
                <a:xfrm>
                  <a:off x="3424320" y="3967200"/>
                  <a:ext cx="2057400" cy="38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ED4E-FCA8-4ADD-B03C-62CEA2A5EA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Функциональные языки высших степ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H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295280" y="2870280"/>
            <a:ext cx="617220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Язык функциональных выражений обогащается введением </a:t>
            </a:r>
            <a:r>
              <a:rPr b="0" lang="ru-RU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-абстракции. Семантика Дана Скотта, Хенкина и др. Функциональные типы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0B2F-8802-415B-BF8D-8EA93D4718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219320" y="3962520"/>
            <a:ext cx="7010280" cy="228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рехо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143000" y="2666880"/>
            <a:ext cx="59594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прощ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203480" y="1717560"/>
            <a:ext cx="59594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дстанов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09480" y="380880"/>
            <a:ext cx="78487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Операционная семан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3276720" y="1727280"/>
                <a:ext cx="3657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3505320" y="2666880"/>
                <a:ext cx="2361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pl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1523880" y="4419720"/>
                <a:ext cx="61722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simpl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]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3276720" y="5638680"/>
                <a:ext cx="2514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simpl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AutoShape 10"/>
          <p:cNvSpPr/>
          <p:nvPr/>
        </p:nvSpPr>
        <p:spPr>
          <a:xfrm>
            <a:off x="5791320" y="3581280"/>
            <a:ext cx="2895480" cy="457200"/>
          </a:xfrm>
          <a:prstGeom prst="wedgeRoundRectCallout">
            <a:avLst>
              <a:gd name="adj1" fmla="val -76208"/>
              <a:gd name="adj2" fmla="val 1472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Вызов 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556680" y="4343400"/>
            <a:ext cx="2094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66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входит один р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228600" y="5638680"/>
                <a:ext cx="25909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Text Box 13"/>
          <p:cNvSpPr/>
          <p:nvPr/>
        </p:nvSpPr>
        <p:spPr>
          <a:xfrm>
            <a:off x="310320" y="3581280"/>
            <a:ext cx="18540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недетермини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214200" y="4357800"/>
            <a:ext cx="928800" cy="457200"/>
          </a:xfrm>
          <a:prstGeom prst="wedgeRoundRectCallout">
            <a:avLst>
              <a:gd name="adj1" fmla="val 82736"/>
              <a:gd name="adj2" fmla="val 23007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сре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357800" y="3429000"/>
            <a:ext cx="842760" cy="457200"/>
          </a:xfrm>
          <a:prstGeom prst="wedgeRoundRectCallout">
            <a:avLst>
              <a:gd name="adj1" fmla="val -82407"/>
              <a:gd name="adj2" fmla="val 1672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аг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BA76-6378-4063-A635-6FD026CA57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609480" y="380880"/>
            <a:ext cx="78487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Теоре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968400" y="1479600"/>
                <a:ext cx="7281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[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[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]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[</m:t>
                        </m:r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2362320" y="3755880"/>
                <a:ext cx="35049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" name="Rectangle 5"/>
          <p:cNvSpPr/>
          <p:nvPr/>
        </p:nvSpPr>
        <p:spPr>
          <a:xfrm>
            <a:off x="380880" y="2971800"/>
            <a:ext cx="845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Используется теорема о наименьшей неподвижной точк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4419720" y="3809880"/>
            <a:ext cx="342720" cy="457200"/>
            <a:chOff x="4419720" y="3809880"/>
            <a:chExt cx="342720" cy="457200"/>
          </a:xfrm>
        </p:grpSpPr>
        <p:sp>
          <p:nvSpPr>
            <p:cNvPr id="91" name="Rectangle 7"/>
            <p:cNvSpPr/>
            <p:nvPr/>
          </p:nvSpPr>
          <p:spPr>
            <a:xfrm>
              <a:off x="4419720" y="3809880"/>
              <a:ext cx="34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8"/>
            <p:cNvGrpSpPr/>
            <p:nvPr/>
          </p:nvGrpSpPr>
          <p:grpSpPr>
            <a:xfrm>
              <a:off x="4476600" y="3876480"/>
              <a:ext cx="228240" cy="343080"/>
              <a:chOff x="4476600" y="3876480"/>
              <a:chExt cx="228240" cy="343080"/>
            </a:xfrm>
          </p:grpSpPr>
          <p:sp>
            <p:nvSpPr>
              <p:cNvPr id="93" name="Line 9"/>
              <p:cNvSpPr/>
              <p:nvPr/>
            </p:nvSpPr>
            <p:spPr>
              <a:xfrm>
                <a:off x="4476600" y="3876480"/>
                <a:ext cx="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10"/>
              <p:cNvSpPr/>
              <p:nvPr/>
            </p:nvSpPr>
            <p:spPr>
              <a:xfrm>
                <a:off x="4704480" y="3876480"/>
                <a:ext cx="36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11"/>
              <p:cNvSpPr/>
              <p:nvPr/>
            </p:nvSpPr>
            <p:spPr>
              <a:xfrm>
                <a:off x="4476600" y="4219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F04F-E849-4F2D-8A00-4056D652DC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all-by-value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ager)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самое внутреннее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all-by name (lazy)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самое внешнее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lel,…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се самые внешние (внутренние)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тратегии вычислений</a:t>
            </a:r>
            <a:br>
              <a:rPr sz="28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емантики и языки)</a:t>
            </a:r>
            <a:endParaRPr b="1" lang="en-US" sz="1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600200" y="4038480"/>
            <a:ext cx="6172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Эффективность и полно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B1B9-DEC4-4925-AB9F-583A7F3BCE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0880" y="609480"/>
            <a:ext cx="8077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isp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(John McCarthy, 195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defun factorial (n) (if (&lt;= n 1) 1 (* n (factorial (- n 1)))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ML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(late 70, R.Milner, matching, type infer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un fac : (int -&gt; int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 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 fac n = n * fac (n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un fac 0 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 fac n = n * fac (n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fun haar l = let fun aux [s] [] d = s ::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 aux [] s d = aux s []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ux (h1::h2::t) s d = aux t (h1 + h2 :: s) (h1 - h2 :: 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ux _ _ _ = raise Emp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n aux l [] []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val haar = fn : int list -&gt; int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3643200" y="3071880"/>
            <a:ext cx="3000600" cy="457200"/>
          </a:xfrm>
          <a:prstGeom prst="wedgeRoundRectCallout">
            <a:avLst>
              <a:gd name="adj1" fmla="val -104731"/>
              <a:gd name="adj2" fmla="val 4617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Без типовых аннот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Alexander</cp:lastModifiedBy>
  <dcterms:modified xsi:type="dcterms:W3CDTF">2008-04-05T09:39:57Z</dcterms:modified>
  <cp:revision>150</cp:revision>
  <dc:subject/>
  <dc:title>Агенты, среды и проектирование программного обеспечения</dc:title>
</cp:coreProperties>
</file>