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4C1D-9CAF-4AA5-B5E9-C25C1F8466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E6E-9971-4C6A-84E8-03FE6EE32E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72A-8AF9-4C5C-BE64-4F9D722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9ED-44F7-4D63-9E0A-A002496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7D4-D774-44AB-A5CD-3E29E774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503-3AA6-4D18-81A0-3FFD106F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287-1A71-433A-BAE2-8D8D244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5F8-A818-4FD1-AFCD-12F00198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E81-50E7-41A5-BC51-2CB043D0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7AF-B02B-48B0-9503-6452FDBC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B28-E9EE-4EB7-90EA-2FBA0B7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E42-3065-4703-BBEE-CA9C328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660-8AA6-494A-A8A2-BCB02F9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265-6E6A-4F49-A4C8-50F8270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176-4AEB-465B-9E20-D6F57217D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848720" cy="31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Современные проблемы информатик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Лекция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br>
              <a:rPr sz="3200"/>
            </a:b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Times New Roman"/>
              </a:rPr>
              <a:t>Семантик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49520" y="4797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chum.kiev.ua/l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46C-1D09-41BD-B5D2-16048DFDF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6781680" y="2666880"/>
            <a:ext cx="1981440" cy="1067040"/>
          </a:xfrm>
          <a:prstGeom prst="wedgeRoundRectCallout">
            <a:avLst>
              <a:gd name="adj1" fmla="val -70833"/>
              <a:gd name="adj2" fmla="val -2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-формулы 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μ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исчисления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1150920" y="1371600"/>
                <a:ext cx="653580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μ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|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ν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|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Text Box 13"/>
          <p:cNvSpPr/>
          <p:nvPr/>
        </p:nvSpPr>
        <p:spPr>
          <a:xfrm>
            <a:off x="6856560" y="281952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множество та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состояний, на котор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истинно </a:t>
            </a:r>
            <a:r>
              <a:rPr b="1" i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φ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, при услов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что 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 истинно на 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7"/>
          <p:cNvGrpSpPr/>
          <p:nvPr/>
        </p:nvGrpSpPr>
        <p:grpSpPr>
          <a:xfrm>
            <a:off x="5074920" y="4000680"/>
            <a:ext cx="3823200" cy="1334880"/>
            <a:chOff x="5074920" y="4000680"/>
            <a:chExt cx="3823200" cy="1334880"/>
          </a:xfrm>
        </p:grpSpPr>
        <p:sp>
          <p:nvSpPr>
            <p:cNvPr id="247" name="Text Box 11"/>
            <p:cNvSpPr/>
            <p:nvPr/>
          </p:nvSpPr>
          <p:spPr>
            <a:xfrm>
              <a:off x="5074920" y="4021920"/>
              <a:ext cx="3823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Монотонность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следует из позитивност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вхождений. Можно примен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теорему о неподвижных точка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12"/>
                <p:cNvSpPr txBox="1"/>
                <p:nvPr/>
              </p:nvSpPr>
              <p:spPr>
                <a:xfrm>
                  <a:off x="6857640" y="4000680"/>
                  <a:ext cx="8931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ϕ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20"/>
          <p:cNvGrpSpPr/>
          <p:nvPr/>
        </p:nvGrpSpPr>
        <p:grpSpPr>
          <a:xfrm>
            <a:off x="357120" y="3500280"/>
            <a:ext cx="4572000" cy="3071880"/>
            <a:chOff x="357120" y="3500280"/>
            <a:chExt cx="4572000" cy="3071880"/>
          </a:xfrm>
        </p:grpSpPr>
        <p:sp>
          <p:nvSpPr>
            <p:cNvPr id="250" name="Oval 10"/>
            <p:cNvSpPr/>
            <p:nvPr/>
          </p:nvSpPr>
          <p:spPr>
            <a:xfrm>
              <a:off x="357120" y="3500280"/>
              <a:ext cx="4572000" cy="30718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1"/>
            <p:cNvSpPr/>
            <p:nvPr/>
          </p:nvSpPr>
          <p:spPr>
            <a:xfrm>
              <a:off x="509400" y="3928680"/>
              <a:ext cx="2362320" cy="2000520"/>
            </a:xfrm>
            <a:prstGeom prst="ellipse">
              <a:avLst/>
            </a:prstGeom>
            <a:solidFill>
              <a:srgbClr val="d6d6f5">
                <a:alpha val="58000"/>
              </a:srgbClr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Box 13"/>
            <p:cNvSpPr/>
            <p:nvPr/>
          </p:nvSpPr>
          <p:spPr>
            <a:xfrm>
              <a:off x="1974600" y="378576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Box 15"/>
            <p:cNvSpPr/>
            <p:nvPr/>
          </p:nvSpPr>
          <p:spPr>
            <a:xfrm>
              <a:off x="3723840" y="414324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18"/>
            <p:cNvSpPr/>
            <p:nvPr/>
          </p:nvSpPr>
          <p:spPr>
            <a:xfrm>
              <a:off x="857160" y="4357440"/>
              <a:ext cx="2362320" cy="2000520"/>
            </a:xfrm>
            <a:prstGeom prst="ellipse">
              <a:avLst/>
            </a:prstGeom>
            <a:solidFill>
              <a:srgbClr val="d6d6f5">
                <a:alpha val="51000"/>
              </a:srgbClr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10"/>
                <p:cNvSpPr txBox="1"/>
                <p:nvPr/>
              </p:nvSpPr>
              <p:spPr>
                <a:xfrm>
                  <a:off x="785520" y="4500360"/>
                  <a:ext cx="261540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⇔</m:t>
                          </m:r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r>
                            <m:t xml:space="preserve">Q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ϕ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13"/>
                <p:cNvSpPr txBox="1"/>
                <p:nvPr/>
              </p:nvSpPr>
              <p:spPr>
                <a:xfrm>
                  <a:off x="2714400" y="5572080"/>
                  <a:ext cx="8935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ϕ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678-FEA0-4A0D-AB07-D9D4FD8732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Вычисление неподвижных точек</a:t>
            </a:r>
            <a:br>
              <a:rPr sz="4000"/>
            </a:b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( теорема Тар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1571760" y="1571760"/>
                <a:ext cx="585792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μ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p>
                        </m:sSubSup>
                        <m:r>
                          <m:t xml:space="preserve">=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∞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ν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p>
                        </m:sSubSup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intersect</m:t>
                                </m:r>
                              </m:e>
                              <m:lim>
                                <m:r>
                                  <m:t xml:space="preserve">∅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3214800" y="3857760"/>
                <a:ext cx="45720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Oval 7"/>
          <p:cNvSpPr/>
          <p:nvPr/>
        </p:nvSpPr>
        <p:spPr>
          <a:xfrm>
            <a:off x="142920" y="3786120"/>
            <a:ext cx="3429000" cy="2857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320760" y="4329000"/>
            <a:ext cx="1662120" cy="1535400"/>
          </a:xfrm>
          <a:prstGeom prst="ellipse">
            <a:avLst/>
          </a:prstGeom>
          <a:solidFill>
            <a:srgbClr val="ff7c80">
              <a:alpha val="58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292040" y="421956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2532240" y="449424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214200" y="4143240"/>
            <a:ext cx="2000520" cy="2071800"/>
          </a:xfrm>
          <a:prstGeom prst="ellipse">
            <a:avLst/>
          </a:prstGeom>
          <a:solidFill>
            <a:srgbClr val="d6d6f5">
              <a:alpha val="51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1871640" y="5591160"/>
                <a:ext cx="6285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4500720" y="4857840"/>
                <a:ext cx="29289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∅</m:t>
                        </m:r>
                        <m:r>
                          <m:t xml:space="preserve">⊆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⊆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⊇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⊇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E4E-C600-479B-B2B6-76B2A6298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357200" y="1643040"/>
                <a:ext cx="5715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x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end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x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=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=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en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 fix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=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ϕ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e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Text Box 12"/>
          <p:cNvSpPr/>
          <p:nvPr/>
        </p:nvSpPr>
        <p:spPr>
          <a:xfrm>
            <a:off x="999000" y="364320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равнения перестановоч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E99-FA96-4564-99C6-3341238D6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Рекурсивное вычисление оператора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076400" y="1981080"/>
                <a:ext cx="75340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533520" y="4944960"/>
                <a:ext cx="50292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Z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32050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228600" y="1371600"/>
                <a:ext cx="6400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≥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∃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≥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 Box 9"/>
          <p:cNvSpPr/>
          <p:nvPr/>
        </p:nvSpPr>
        <p:spPr>
          <a:xfrm>
            <a:off x="257760" y="15228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Все формулы переводятся в формулы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μ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и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533-1FF9-4240-84C5-431FCEB02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857160" y="2643120"/>
                <a:ext cx="7605720" cy="329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ψ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ψ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ψ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ϕ</m:t>
                        </m:r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ψ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Xϕ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ϕ</m:t>
                        </m:r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3352680" y="1828800"/>
                <a:ext cx="30481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14280" y="571680"/>
                <a:ext cx="6286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ϕ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p/>
                    </m:sSup>
                    <m:r>
                      <m:t xml:space="preserve">ψ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μ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∨</m:t>
                    </m:r>
                    <m:r>
                      <m:t xml:space="preserve">ϕ</m:t>
                    </m:r>
                    <m:r>
                      <m:t xml:space="preserve">∧</m:t>
                    </m:r>
                    <m:r>
                      <m:t xml:space="preserve">X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FD00-F24B-4740-9649-7CD4C58E0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Вычисление операторов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TL</a:t>
            </a:r>
            <a:br>
              <a:rPr sz="2800"/>
            </a:br>
            <a:r>
              <a:rPr b="1" lang="ru-RU" sz="1800" spc="-1" strike="noStrike">
                <a:solidFill>
                  <a:srgbClr val="cc0066"/>
                </a:solidFill>
                <a:latin typeface="Times New Roman"/>
              </a:rPr>
              <a:t>вспомогательные утвер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2000160" y="4848120"/>
                <a:ext cx="48610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∀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ϕ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T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357120" y="1214280"/>
                <a:ext cx="85312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∨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</m:t>
                        </m:r>
                        <m:r>
                          <m:t xml:space="preserve">ϕ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LT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Oval 8"/>
          <p:cNvSpPr/>
          <p:nvPr/>
        </p:nvSpPr>
        <p:spPr>
          <a:xfrm>
            <a:off x="1500120" y="2998800"/>
            <a:ext cx="714600" cy="714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3000240" y="2998800"/>
            <a:ext cx="714600" cy="714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11"/>
          <p:cNvCxnSpPr>
            <a:stCxn id="287" idx="6"/>
            <a:endCxn id="288" idx="2"/>
          </p:cNvCxnSpPr>
          <p:nvPr/>
        </p:nvCxnSpPr>
        <p:spPr>
          <a:xfrm>
            <a:off x="2214720" y="3355560"/>
            <a:ext cx="786240" cy="252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0" name="Straight Arrow Connector 12"/>
          <p:cNvCxnSpPr/>
          <p:nvPr/>
        </p:nvCxnSpPr>
        <p:spPr>
          <a:xfrm>
            <a:off x="3714840" y="3355560"/>
            <a:ext cx="3286800" cy="252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291" name="TextBox 14"/>
          <p:cNvSpPr/>
          <p:nvPr/>
        </p:nvSpPr>
        <p:spPr>
          <a:xfrm>
            <a:off x="5003640" y="2894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0"/>
          <p:cNvSpPr/>
          <p:nvPr/>
        </p:nvSpPr>
        <p:spPr>
          <a:xfrm>
            <a:off x="2286000" y="4070520"/>
            <a:ext cx="4214880" cy="1440"/>
          </a:xfrm>
          <a:prstGeom prst="line">
            <a:avLst/>
          </a:prstGeom>
          <a:ln w="255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4288680" y="36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hape 23"/>
          <p:cNvCxnSpPr>
            <a:endCxn id="287" idx="4"/>
          </p:cNvCxnSpPr>
          <p:nvPr/>
        </p:nvCxnSpPr>
        <p:spPr>
          <a:xfrm rot="10800000">
            <a:off x="1856520" y="3712320"/>
            <a:ext cx="429480" cy="358200"/>
          </a:xfrm>
          <a:prstGeom prst="curvedConnector2">
            <a:avLst/>
          </a:prstGeom>
          <a:ln w="25560">
            <a:solidFill>
              <a:srgbClr val="00cc98"/>
            </a:solidFill>
            <a:miter/>
          </a:ln>
        </p:spPr>
      </p:cxnSp>
      <p:cxnSp>
        <p:nvCxnSpPr>
          <p:cNvPr id="295" name="Curved Connector 25"/>
          <p:cNvCxnSpPr/>
          <p:nvPr/>
        </p:nvCxnSpPr>
        <p:spPr>
          <a:xfrm flipH="1" flipV="1" rot="5400000">
            <a:off x="6392520" y="3462480"/>
            <a:ext cx="715320" cy="500760"/>
          </a:xfrm>
          <a:prstGeom prst="curvedConnector5">
            <a:avLst>
              <a:gd name="adj1" fmla="val 855"/>
              <a:gd name="adj2" fmla="val 50000"/>
              <a:gd name="adj3" fmla="val 855"/>
            </a:avLst>
          </a:prstGeom>
          <a:ln w="25560">
            <a:solidFill>
              <a:srgbClr val="00cc98"/>
            </a:solidFill>
            <a:miter/>
          </a:ln>
        </p:spPr>
      </p:cxnSp>
      <p:sp>
        <p:nvSpPr>
          <p:cNvPr id="296" name="Rectangle 2"/>
          <p:cNvSpPr/>
          <p:nvPr/>
        </p:nvSpPr>
        <p:spPr>
          <a:xfrm>
            <a:off x="428760" y="4143240"/>
            <a:ext cx="77724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Times New Roman"/>
              </a:rPr>
              <a:t>Операторы ЕХ и 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2286000" y="4429080"/>
            <a:ext cx="4143240" cy="642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143080" y="2714760"/>
            <a:ext cx="4143600" cy="642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DBA-B040-4C5D-A559-445F4861AA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85840" y="1214280"/>
                <a:ext cx="816300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E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Вычисление операторов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1571760" y="4000680"/>
                <a:ext cx="57099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Aϕ</m:t>
                        </m:r>
                        <m:r>
                          <m:t xml:space="preserve">⇔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p/>
                        </m:sSup>
                        <m:r>
                          <m:t xml:space="preserve">ψ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∨</m:t>
                        </m:r>
                        <m:r>
                          <m:t xml:space="preserve">ϕ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5"/>
          <p:cNvSpPr/>
          <p:nvPr/>
        </p:nvSpPr>
        <p:spPr>
          <a:xfrm>
            <a:off x="857160" y="928800"/>
            <a:ext cx="7000920" cy="55004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5A8-A7FC-43C6-B552-6EC8D1AD60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643040" y="1357200"/>
            <a:ext cx="1928880" cy="48488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429080" y="3214800"/>
            <a:ext cx="192888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том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747720" y="3201840"/>
            <a:ext cx="533520" cy="838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1271520" y="32148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356760" y="40528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271520" y="32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4000680" y="1650960"/>
                <a:ext cx="49813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t</m:t>
                            </m:r>
                          </m:e>
                          <m:sub>
                            <m:r>
                              <m:t xml:space="preserve">∃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t</m:t>
                            </m:r>
                          </m:e>
                          <m:sub>
                            <m:r>
                              <m:t xml:space="preserve">∀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Rectangle 21"/>
          <p:cNvSpPr/>
          <p:nvPr/>
        </p:nvSpPr>
        <p:spPr>
          <a:xfrm>
            <a:off x="4214880" y="4643280"/>
            <a:ext cx="2398680" cy="62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500280" y="4357800"/>
            <a:ext cx="1000440" cy="3571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Straight Arrow Connector 24"/>
          <p:cNvCxnSpPr/>
          <p:nvPr/>
        </p:nvCxnSpPr>
        <p:spPr>
          <a:xfrm>
            <a:off x="3571560" y="3429000"/>
            <a:ext cx="8578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2" name="Straight Arrow Connector 26"/>
          <p:cNvCxnSpPr/>
          <p:nvPr/>
        </p:nvCxnSpPr>
        <p:spPr>
          <a:xfrm flipH="1" flipV="1">
            <a:off x="3571200" y="4142520"/>
            <a:ext cx="85788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643040" y="357120"/>
                <a:ext cx="6858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o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XPro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Line 12"/>
          <p:cNvSpPr/>
          <p:nvPr/>
        </p:nvSpPr>
        <p:spPr>
          <a:xfrm>
            <a:off x="739800" y="4033800"/>
            <a:ext cx="533520" cy="9907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966960" y="5030640"/>
            <a:ext cx="304560" cy="762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1271520" y="504360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6"/>
          <p:cNvSpPr/>
          <p:nvPr/>
        </p:nvSpPr>
        <p:spPr>
          <a:xfrm flipH="1">
            <a:off x="1805040" y="405288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1881360" y="4052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3"/>
          <p:cNvGrpSpPr/>
          <p:nvPr/>
        </p:nvGrpSpPr>
        <p:grpSpPr>
          <a:xfrm>
            <a:off x="2018880" y="4738680"/>
            <a:ext cx="838800" cy="762120"/>
            <a:chOff x="2018880" y="4738680"/>
            <a:chExt cx="838800" cy="762120"/>
          </a:xfrm>
        </p:grpSpPr>
        <p:sp>
          <p:nvSpPr>
            <p:cNvPr id="70" name="Line 13"/>
            <p:cNvSpPr/>
            <p:nvPr/>
          </p:nvSpPr>
          <p:spPr>
            <a:xfrm flipH="1">
              <a:off x="2018880" y="4738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2324160" y="47386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Oval 29"/>
          <p:cNvSpPr/>
          <p:nvPr/>
        </p:nvSpPr>
        <p:spPr>
          <a:xfrm>
            <a:off x="1000080" y="478620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42960" y="235728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571320" y="23572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"/>
          <p:cNvSpPr/>
          <p:nvPr/>
        </p:nvSpPr>
        <p:spPr>
          <a:xfrm flipH="1">
            <a:off x="285840" y="23572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3500280" y="2928960"/>
            <a:ext cx="1000440" cy="3571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34"/>
          <p:cNvSpPr/>
          <p:nvPr/>
        </p:nvSpPr>
        <p:spPr>
          <a:xfrm>
            <a:off x="6370560" y="35719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4357800" y="1071720"/>
            <a:ext cx="42148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ормульный вычисл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6357960" y="3000240"/>
                <a:ext cx="785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Rounded Rectangular Callout 31"/>
          <p:cNvSpPr/>
          <p:nvPr/>
        </p:nvSpPr>
        <p:spPr>
          <a:xfrm>
            <a:off x="2214720" y="5643720"/>
            <a:ext cx="3143160" cy="612720"/>
          </a:xfrm>
          <a:prstGeom prst="wedgeRoundRectCallout">
            <a:avLst>
              <a:gd name="adj1" fmla="val -73189"/>
              <a:gd name="adj2" fmla="val -134430"/>
              <a:gd name="adj3" fmla="val 16667"/>
            </a:avLst>
          </a:prstGeom>
          <a:solidFill>
            <a:srgbClr val="99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екущее 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2"/>
          <p:cNvSpPr/>
          <p:nvPr/>
        </p:nvSpPr>
        <p:spPr>
          <a:xfrm>
            <a:off x="1074600" y="26431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6858000" y="421488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934320" y="4214880"/>
            <a:ext cx="457200" cy="68580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H="1">
            <a:off x="7071840" y="4900680"/>
            <a:ext cx="304920" cy="76176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7377120" y="49006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49"/>
          <p:cNvSpPr/>
          <p:nvPr/>
        </p:nvSpPr>
        <p:spPr>
          <a:xfrm>
            <a:off x="7097040" y="5656320"/>
            <a:ext cx="500040" cy="92880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51"/>
          <p:cNvSpPr/>
          <p:nvPr/>
        </p:nvSpPr>
        <p:spPr>
          <a:xfrm flipH="1">
            <a:off x="6715080" y="5651640"/>
            <a:ext cx="3571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3"/>
          <p:cNvSpPr/>
          <p:nvPr/>
        </p:nvSpPr>
        <p:spPr>
          <a:xfrm>
            <a:off x="6858000" y="5429160"/>
            <a:ext cx="428760" cy="428760"/>
          </a:xfrm>
          <a:prstGeom prst="ellipse">
            <a:avLst/>
          </a:prstGeom>
          <a:solidFill>
            <a:srgbClr val="2626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ounded Rectangular Callout 54"/>
          <p:cNvSpPr/>
          <p:nvPr/>
        </p:nvSpPr>
        <p:spPr>
          <a:xfrm>
            <a:off x="2201760" y="5643720"/>
            <a:ext cx="3143520" cy="612720"/>
          </a:xfrm>
          <a:prstGeom prst="wedgeRoundRectCallout">
            <a:avLst>
              <a:gd name="adj1" fmla="val 95699"/>
              <a:gd name="adj2" fmla="val -55675"/>
              <a:gd name="adj3" fmla="val 16667"/>
            </a:avLst>
          </a:prstGeom>
          <a:solidFill>
            <a:srgbClr val="99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екущее 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2DF1-1139-4B31-91A6-871760BEC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Произведение моделей Крип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2080" y="1522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емантика автоматных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2143080" y="1643040"/>
            <a:ext cx="5364360" cy="3886200"/>
            <a:chOff x="2143080" y="1643040"/>
            <a:chExt cx="5364360" cy="3886200"/>
          </a:xfrm>
        </p:grpSpPr>
        <p:sp>
          <p:nvSpPr>
            <p:cNvPr id="94" name="Rectangle 7"/>
            <p:cNvSpPr/>
            <p:nvPr/>
          </p:nvSpPr>
          <p:spPr>
            <a:xfrm>
              <a:off x="2892960" y="4609080"/>
              <a:ext cx="1759680" cy="920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4805640" y="4609080"/>
              <a:ext cx="1759680" cy="920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3810960" y="2692080"/>
              <a:ext cx="1759680" cy="920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ильт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 flipV="1">
              <a:off x="4193640" y="361188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 flipV="1">
              <a:off x="5264640" y="361188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 flipV="1">
              <a:off x="4729320" y="2308320"/>
              <a:ext cx="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V="1">
              <a:off x="3275280" y="361188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6183000" y="361188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3"/>
                <p:cNvSpPr txBox="1"/>
                <p:nvPr/>
              </p:nvSpPr>
              <p:spPr>
                <a:xfrm>
                  <a:off x="2143080" y="3842280"/>
                  <a:ext cx="105588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/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4"/>
                <p:cNvSpPr txBox="1"/>
                <p:nvPr/>
              </p:nvSpPr>
              <p:spPr>
                <a:xfrm>
                  <a:off x="6336000" y="3842280"/>
                  <a:ext cx="1171440" cy="65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/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5"/>
                <p:cNvSpPr txBox="1"/>
                <p:nvPr/>
              </p:nvSpPr>
              <p:spPr>
                <a:xfrm>
                  <a:off x="4214880" y="3786120"/>
                  <a:ext cx="1082880" cy="51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6"/>
                <p:cNvSpPr txBox="1"/>
                <p:nvPr/>
              </p:nvSpPr>
              <p:spPr>
                <a:xfrm>
                  <a:off x="4071960" y="1643040"/>
                  <a:ext cx="133884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1"/>
              <p:cNvSpPr txBox="1"/>
              <p:nvPr/>
            </p:nvSpPr>
            <p:spPr>
              <a:xfrm>
                <a:off x="5643720" y="1643040"/>
                <a:ext cx="25333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" name="Group 28"/>
          <p:cNvGrpSpPr/>
          <p:nvPr/>
        </p:nvGrpSpPr>
        <p:grpSpPr>
          <a:xfrm>
            <a:off x="500040" y="1500120"/>
            <a:ext cx="2714760" cy="2428920"/>
            <a:chOff x="500040" y="1500120"/>
            <a:chExt cx="2714760" cy="2428920"/>
          </a:xfrm>
        </p:grpSpPr>
        <p:sp>
          <p:nvSpPr>
            <p:cNvPr id="108" name="Oval 23"/>
            <p:cNvSpPr/>
            <p:nvPr/>
          </p:nvSpPr>
          <p:spPr>
            <a:xfrm>
              <a:off x="500040" y="2143080"/>
              <a:ext cx="1857600" cy="1785960"/>
            </a:xfrm>
            <a:prstGeom prst="ellipse">
              <a:avLst/>
            </a:prstGeom>
            <a:solidFill>
              <a:srgbClr val="47ffd1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928440" y="1500120"/>
              <a:ext cx="2286360" cy="1771920"/>
            </a:xfrm>
            <a:prstGeom prst="ellipse">
              <a:avLst/>
            </a:prstGeom>
            <a:solidFill>
              <a:srgbClr val="adadeb">
                <a:alpha val="31000"/>
              </a:srgbClr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2"/>
                <p:cNvSpPr txBox="1"/>
                <p:nvPr/>
              </p:nvSpPr>
              <p:spPr>
                <a:xfrm>
                  <a:off x="1071360" y="2500200"/>
                  <a:ext cx="1082880" cy="51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23"/>
                <p:cNvSpPr txBox="1"/>
                <p:nvPr/>
              </p:nvSpPr>
              <p:spPr>
                <a:xfrm>
                  <a:off x="1928880" y="1785600"/>
                  <a:ext cx="928800" cy="52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/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24"/>
                <p:cNvSpPr txBox="1"/>
                <p:nvPr/>
              </p:nvSpPr>
              <p:spPr>
                <a:xfrm>
                  <a:off x="642600" y="3143160"/>
                  <a:ext cx="928800" cy="52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/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FF9-F50D-4CCD-851B-6C80258CF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42920" y="785880"/>
                <a:ext cx="8013600" cy="27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/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∩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∩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/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438120" y="4129200"/>
                <a:ext cx="75628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⇔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→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Rectangle 7"/>
          <p:cNvSpPr/>
          <p:nvPr/>
        </p:nvSpPr>
        <p:spPr>
          <a:xfrm>
            <a:off x="6716880" y="1635120"/>
            <a:ext cx="84456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34160" y="1635120"/>
            <a:ext cx="84456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157880" y="577800"/>
            <a:ext cx="84312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340760" y="1085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7854840" y="1085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7597800" y="3668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6900840" y="1085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 flipV="1">
            <a:off x="8294760" y="1085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6357960" y="1212840"/>
                <a:ext cx="506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8367840" y="1212840"/>
                <a:ext cx="5619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7351560" y="1181160"/>
                <a:ext cx="51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7283520" y="0"/>
                <a:ext cx="641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5000760" y="3214800"/>
                <a:ext cx="3751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⇔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"/>
          <p:cNvSpPr/>
          <p:nvPr/>
        </p:nvSpPr>
        <p:spPr>
          <a:xfrm>
            <a:off x="357120" y="214200"/>
            <a:ext cx="655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Формальное определение произ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480-F774-4AB5-AD9A-F821DC491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Модель Крипке, ассоциированная с автоматной форму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5072040" y="1428840"/>
                <a:ext cx="3179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355680" y="1500120"/>
                <a:ext cx="376056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Q</m:t>
                            </m:r>
                            <m:r>
                              <m:t xml:space="preserve">∪</m:t>
                            </m:r>
                            <m:r>
                              <m:t xml:space="preserve">V</m:t>
                            </m:r>
                          </m:sup>
                        </m:sSup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ϑ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ϑ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ϑ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ϑ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ϑ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ϑ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ϑ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4316400" y="2235240"/>
                <a:ext cx="46576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else 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928800" y="4143240"/>
                <a:ext cx="78930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ϕ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571680" y="6143760"/>
                <a:ext cx="6858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o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XPro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929120" y="3357720"/>
                <a:ext cx="38577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Pro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p</m:t>
                    </m:r>
                    <m:r>
                      <m:t xml:space="preserve">+</m:t>
                    </m:r>
                    <m:r>
                      <m:t xml:space="preserve">Xϕ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o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9D3-C1D7-41AB-8D7A-87EA60AAA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емантика автоматных форм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714760" y="2214720"/>
                <a:ext cx="34527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t</m:t>
                        </m:r>
                      </m:e>
                      <m:sub>
                        <m:r>
                          <m:t xml:space="preserve">∃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285840" y="3643200"/>
                <a:ext cx="8643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s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14280" y="5715000"/>
                <a:ext cx="6096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¬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t</m:t>
                        </m:r>
                      </m:e>
                      <m:sub>
                        <m:r>
                          <m:t xml:space="preserve">∃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500040" y="5072040"/>
                <a:ext cx="3278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t</m:t>
                        </m:r>
                      </m:e>
                      <m:sub>
                        <m:r>
                          <m:t xml:space="preserve">∀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Group 30"/>
          <p:cNvGrpSpPr/>
          <p:nvPr/>
        </p:nvGrpSpPr>
        <p:grpSpPr>
          <a:xfrm>
            <a:off x="5518080" y="142560"/>
            <a:ext cx="3483000" cy="3527640"/>
            <a:chOff x="5518080" y="142560"/>
            <a:chExt cx="3483000" cy="3527640"/>
          </a:xfrm>
        </p:grpSpPr>
        <p:sp>
          <p:nvSpPr>
            <p:cNvPr id="145" name="Rectangle 12"/>
            <p:cNvSpPr/>
            <p:nvPr/>
          </p:nvSpPr>
          <p:spPr>
            <a:xfrm>
              <a:off x="5518080" y="2916360"/>
              <a:ext cx="1501560" cy="712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7151400" y="2916360"/>
              <a:ext cx="1501920" cy="712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6302160" y="1433520"/>
              <a:ext cx="1501920" cy="711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ильт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 flipV="1">
              <a:off x="6627600" y="214452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 flipV="1">
              <a:off x="7542000" y="214452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7084800" y="11361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6"/>
                <p:cNvSpPr txBox="1"/>
                <p:nvPr/>
              </p:nvSpPr>
              <p:spPr>
                <a:xfrm>
                  <a:off x="8413560" y="2255760"/>
                  <a:ext cx="38412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7"/>
                <p:cNvSpPr txBox="1"/>
                <p:nvPr/>
              </p:nvSpPr>
              <p:spPr>
                <a:xfrm>
                  <a:off x="6865920" y="2276640"/>
                  <a:ext cx="4172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Rectangle 24"/>
            <p:cNvSpPr/>
            <p:nvPr/>
          </p:nvSpPr>
          <p:spPr>
            <a:xfrm>
              <a:off x="6432480" y="447840"/>
              <a:ext cx="2568600" cy="711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8"/>
                <p:cNvSpPr txBox="1"/>
                <p:nvPr/>
              </p:nvSpPr>
              <p:spPr>
                <a:xfrm>
                  <a:off x="7422840" y="600120"/>
                  <a:ext cx="528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Line 26"/>
            <p:cNvSpPr/>
            <p:nvPr/>
          </p:nvSpPr>
          <p:spPr>
            <a:xfrm flipV="1">
              <a:off x="7588080" y="142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V="1">
              <a:off x="8261280" y="11462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9"/>
                <p:cNvSpPr txBox="1"/>
                <p:nvPr/>
              </p:nvSpPr>
              <p:spPr>
                <a:xfrm>
                  <a:off x="5632200" y="2933640"/>
                  <a:ext cx="1333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       </m:t>
                          </m:r>
                          <m:r>
                            <m:t xml:space="preserve">q</m:t>
                          </m:r>
                        </m:e>
                        <m:e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" name="Group 58"/>
          <p:cNvGrpSpPr/>
          <p:nvPr/>
        </p:nvGrpSpPr>
        <p:grpSpPr>
          <a:xfrm>
            <a:off x="142560" y="857160"/>
            <a:ext cx="2500560" cy="2643120"/>
            <a:chOff x="142560" y="857160"/>
            <a:chExt cx="2500560" cy="2643120"/>
          </a:xfrm>
        </p:grpSpPr>
        <p:sp>
          <p:nvSpPr>
            <p:cNvPr id="159" name="Rectangle 22"/>
            <p:cNvSpPr/>
            <p:nvPr/>
          </p:nvSpPr>
          <p:spPr>
            <a:xfrm>
              <a:off x="1413000" y="2462040"/>
              <a:ext cx="941400" cy="377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Straight Arrow Connector 23"/>
            <p:cNvCxnSpPr/>
            <p:nvPr/>
          </p:nvCxnSpPr>
          <p:spPr>
            <a:xfrm>
              <a:off x="1160280" y="1733400"/>
              <a:ext cx="336600" cy="2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1" name="Straight Arrow Connector 24"/>
            <p:cNvCxnSpPr/>
            <p:nvPr/>
          </p:nvCxnSpPr>
          <p:spPr>
            <a:xfrm flipH="1" flipV="1">
              <a:off x="1160280" y="2161800"/>
              <a:ext cx="336600" cy="2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62" name="Right Arrow 25"/>
            <p:cNvSpPr/>
            <p:nvPr/>
          </p:nvSpPr>
          <p:spPr>
            <a:xfrm>
              <a:off x="2259000" y="1819080"/>
              <a:ext cx="384120" cy="29052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c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1479600" y="1589040"/>
              <a:ext cx="777600" cy="784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376200" y="857160"/>
              <a:ext cx="777600" cy="2403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131840" y="1433160"/>
              <a:ext cx="393480" cy="214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131840" y="2290680"/>
              <a:ext cx="393480" cy="214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48"/>
            <p:cNvGrpSpPr/>
            <p:nvPr/>
          </p:nvGrpSpPr>
          <p:grpSpPr>
            <a:xfrm>
              <a:off x="142560" y="1432080"/>
              <a:ext cx="1009800" cy="2068200"/>
              <a:chOff x="142560" y="1432080"/>
              <a:chExt cx="1009800" cy="2068200"/>
            </a:xfrm>
          </p:grpSpPr>
          <p:sp>
            <p:nvSpPr>
              <p:cNvPr id="168" name="Line 9"/>
              <p:cNvSpPr/>
              <p:nvPr/>
            </p:nvSpPr>
            <p:spPr>
              <a:xfrm flipH="1">
                <a:off x="323640" y="1938600"/>
                <a:ext cx="209160" cy="50256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529920" y="1946160"/>
                <a:ext cx="23904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 flipH="1">
                <a:off x="170280" y="2449080"/>
                <a:ext cx="149400" cy="5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5"/>
              <p:cNvSpPr/>
              <p:nvPr/>
            </p:nvSpPr>
            <p:spPr>
              <a:xfrm>
                <a:off x="529920" y="1946160"/>
                <a:ext cx="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2"/>
              <p:cNvSpPr/>
              <p:nvPr/>
            </p:nvSpPr>
            <p:spPr>
              <a:xfrm>
                <a:off x="321120" y="2437560"/>
                <a:ext cx="209160" cy="59400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 flipH="1">
                <a:off x="410040" y="3035880"/>
                <a:ext cx="119520" cy="45684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4"/>
              <p:cNvSpPr/>
              <p:nvPr/>
            </p:nvSpPr>
            <p:spPr>
              <a:xfrm>
                <a:off x="529920" y="3043440"/>
                <a:ext cx="2091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6"/>
              <p:cNvSpPr/>
              <p:nvPr/>
            </p:nvSpPr>
            <p:spPr>
              <a:xfrm flipH="1">
                <a:off x="739080" y="2449080"/>
                <a:ext cx="2988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>
                <a:off x="769320" y="2449080"/>
                <a:ext cx="17928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 flipH="1">
                <a:off x="823320" y="2860560"/>
                <a:ext cx="11952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943200" y="2860560"/>
                <a:ext cx="2091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50"/>
              <p:cNvSpPr/>
              <p:nvPr/>
            </p:nvSpPr>
            <p:spPr>
              <a:xfrm>
                <a:off x="423720" y="2889360"/>
                <a:ext cx="168120" cy="2570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>
                <a:off x="282960" y="1432080"/>
                <a:ext cx="239040" cy="50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 flipH="1">
                <a:off x="254520" y="1432080"/>
                <a:ext cx="2988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1"/>
              <p:cNvSpPr/>
              <p:nvPr/>
            </p:nvSpPr>
            <p:spPr>
              <a:xfrm flipH="1">
                <a:off x="142560" y="1432080"/>
                <a:ext cx="149400" cy="5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Line 16"/>
            <p:cNvSpPr/>
            <p:nvPr/>
          </p:nvSpPr>
          <p:spPr>
            <a:xfrm flipH="1">
              <a:off x="2022840" y="1850040"/>
              <a:ext cx="29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>
              <a:off x="2052720" y="1850760"/>
              <a:ext cx="179280" cy="411120"/>
            </a:xfrm>
            <a:prstGeom prst="line">
              <a:avLst/>
            </a:prstGeom>
            <a:ln w="381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H="1">
              <a:off x="2106360" y="2262240"/>
              <a:ext cx="120600" cy="457200"/>
            </a:xfrm>
            <a:prstGeom prst="line">
              <a:avLst/>
            </a:prstGeom>
            <a:ln w="381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2226960" y="2261520"/>
              <a:ext cx="209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traight Connector 36"/>
            <p:cNvSpPr/>
            <p:nvPr/>
          </p:nvSpPr>
          <p:spPr>
            <a:xfrm>
              <a:off x="2117880" y="2714400"/>
              <a:ext cx="195120" cy="556920"/>
            </a:xfrm>
            <a:prstGeom prst="line">
              <a:avLst/>
            </a:prstGeom>
            <a:ln w="381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Straight Connector 37"/>
            <p:cNvSpPr/>
            <p:nvPr/>
          </p:nvSpPr>
          <p:spPr>
            <a:xfrm flipH="1">
              <a:off x="1967040" y="2711520"/>
              <a:ext cx="1396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38"/>
            <p:cNvSpPr/>
            <p:nvPr/>
          </p:nvSpPr>
          <p:spPr>
            <a:xfrm>
              <a:off x="2022480" y="2577960"/>
              <a:ext cx="168120" cy="257040"/>
            </a:xfrm>
            <a:prstGeom prst="ellipse">
              <a:avLst/>
            </a:prstGeom>
            <a:solidFill>
              <a:srgbClr val="2626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Box 57"/>
          <p:cNvSpPr/>
          <p:nvPr/>
        </p:nvSpPr>
        <p:spPr>
          <a:xfrm>
            <a:off x="4597920" y="4786200"/>
            <a:ext cx="30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</a:rPr>
              <a:t>fst(</a:t>
            </a:r>
            <a:r>
              <a:rPr b="1" i="1" lang="en-US" sz="1800" spc="-1" strike="noStrike">
                <a:solidFill>
                  <a:srgbClr val="00664d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</a:rPr>
              <a:t>) – </a:t>
            </a:r>
            <a:r>
              <a:rPr b="1" lang="ru-RU" sz="1800" spc="-1" strike="noStrike">
                <a:solidFill>
                  <a:srgbClr val="00664d"/>
                </a:solidFill>
                <a:latin typeface="Times New Roman"/>
              </a:rPr>
              <a:t>первая про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4d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664d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</a:rPr>
              <a:t>) – </a:t>
            </a:r>
            <a:r>
              <a:rPr b="1" lang="ru-RU" sz="1800" spc="-1" strike="noStrike">
                <a:solidFill>
                  <a:srgbClr val="00664d"/>
                </a:solidFill>
                <a:latin typeface="Times New Roman"/>
              </a:rPr>
              <a:t>состояние в момент </a:t>
            </a:r>
            <a:r>
              <a:rPr b="1" i="1" lang="ru-RU" sz="1800" spc="-1" strike="noStrike">
                <a:solidFill>
                  <a:srgbClr val="00664d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AD8-B7ED-43A2-A46E-16B91511F6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Семантика 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-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32"/>
          <p:cNvGrpSpPr/>
          <p:nvPr/>
        </p:nvGrpSpPr>
        <p:grpSpPr>
          <a:xfrm>
            <a:off x="714240" y="2714760"/>
            <a:ext cx="7358040" cy="1780920"/>
            <a:chOff x="714240" y="2714760"/>
            <a:chExt cx="7358040" cy="1780920"/>
          </a:xfrm>
        </p:grpSpPr>
        <p:sp>
          <p:nvSpPr>
            <p:cNvPr id="194" name="AutoShape 31"/>
            <p:cNvSpPr/>
            <p:nvPr/>
          </p:nvSpPr>
          <p:spPr>
            <a:xfrm>
              <a:off x="714240" y="2714760"/>
              <a:ext cx="1371600" cy="609480"/>
            </a:xfrm>
            <a:prstGeom prst="wedgeRoundRectCallout">
              <a:avLst>
                <a:gd name="adj1" fmla="val 134009"/>
                <a:gd name="adj2" fmla="val 91564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2"/>
                <p:cNvSpPr txBox="1"/>
                <p:nvPr/>
              </p:nvSpPr>
              <p:spPr>
                <a:xfrm>
                  <a:off x="1690560" y="3456000"/>
                  <a:ext cx="6381720" cy="103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Eϕ</m:t>
                          </m:r>
                          <m:r>
                            <m:t xml:space="preserve">⇔</m:t>
                          </m:r>
                          <m:r>
                            <m:t xml:space="preserve">∃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ϕ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Aϕ</m:t>
                          </m:r>
                          <m:r>
                            <m:t xml:space="preserve">⇔</m:t>
                          </m:r>
                          <m:r>
                            <m:t xml:space="preserve">∀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>
                            <m:t xml:space="preserve">ϕ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4"/>
                <p:cNvSpPr txBox="1"/>
                <p:nvPr/>
              </p:nvSpPr>
              <p:spPr>
                <a:xfrm>
                  <a:off x="856800" y="2857320"/>
                  <a:ext cx="106668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TextBox 33"/>
          <p:cNvSpPr/>
          <p:nvPr/>
        </p:nvSpPr>
        <p:spPr>
          <a:xfrm>
            <a:off x="4007880" y="164304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T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C3FC-8D15-4DDB-A4C3-86987A0A44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Семантика 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-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592280" y="2346480"/>
                <a:ext cx="600696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¬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s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ϕ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¬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1" name="Group 5"/>
          <p:cNvGrpSpPr/>
          <p:nvPr/>
        </p:nvGrpSpPr>
        <p:grpSpPr>
          <a:xfrm>
            <a:off x="5299200" y="3519360"/>
            <a:ext cx="228600" cy="304560"/>
            <a:chOff x="5299200" y="3519360"/>
            <a:chExt cx="228600" cy="304560"/>
          </a:xfrm>
        </p:grpSpPr>
        <p:sp>
          <p:nvSpPr>
            <p:cNvPr id="202" name="Line 6"/>
            <p:cNvSpPr/>
            <p:nvPr/>
          </p:nvSpPr>
          <p:spPr>
            <a:xfrm flipH="1">
              <a:off x="5299200" y="351936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5413680" y="351936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>
              <a:off x="5413320" y="367164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5299200" y="367164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0"/>
          <p:cNvGrpSpPr/>
          <p:nvPr/>
        </p:nvGrpSpPr>
        <p:grpSpPr>
          <a:xfrm>
            <a:off x="2805120" y="4064040"/>
            <a:ext cx="228600" cy="304560"/>
            <a:chOff x="2805120" y="4064040"/>
            <a:chExt cx="228600" cy="304560"/>
          </a:xfrm>
        </p:grpSpPr>
        <p:sp>
          <p:nvSpPr>
            <p:cNvPr id="207" name="Line 11"/>
            <p:cNvSpPr/>
            <p:nvPr/>
          </p:nvSpPr>
          <p:spPr>
            <a:xfrm flipH="1">
              <a:off x="2805120" y="406404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2919600" y="406404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>
              <a:off x="2919240" y="421632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2805120" y="421632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5324400" y="4646520"/>
            <a:ext cx="228600" cy="304560"/>
            <a:chOff x="5324400" y="4646520"/>
            <a:chExt cx="228600" cy="304560"/>
          </a:xfrm>
        </p:grpSpPr>
        <p:sp>
          <p:nvSpPr>
            <p:cNvPr id="212" name="Line 16"/>
            <p:cNvSpPr/>
            <p:nvPr/>
          </p:nvSpPr>
          <p:spPr>
            <a:xfrm flipH="1">
              <a:off x="5324400" y="464652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5438880" y="464652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5438520" y="479880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5324400" y="479880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0"/>
          <p:cNvGrpSpPr/>
          <p:nvPr/>
        </p:nvGrpSpPr>
        <p:grpSpPr>
          <a:xfrm>
            <a:off x="2797200" y="2986200"/>
            <a:ext cx="228600" cy="304560"/>
            <a:chOff x="2797200" y="2986200"/>
            <a:chExt cx="228600" cy="304560"/>
          </a:xfrm>
        </p:grpSpPr>
        <p:sp>
          <p:nvSpPr>
            <p:cNvPr id="217" name="Line 21"/>
            <p:cNvSpPr/>
            <p:nvPr/>
          </p:nvSpPr>
          <p:spPr>
            <a:xfrm flipH="1">
              <a:off x="2797200" y="298620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2911680" y="298620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 flipH="1">
              <a:off x="2911320" y="313848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2797200" y="313848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25"/>
          <p:cNvSpPr/>
          <p:nvPr/>
        </p:nvSpPr>
        <p:spPr>
          <a:xfrm>
            <a:off x="2797200" y="3552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2766960" y="4680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4"/>
          <p:cNvSpPr/>
          <p:nvPr/>
        </p:nvSpPr>
        <p:spPr>
          <a:xfrm>
            <a:off x="1500120" y="1714680"/>
            <a:ext cx="1285920" cy="609480"/>
          </a:xfrm>
          <a:prstGeom prst="wedgeRoundRectCallout">
            <a:avLst>
              <a:gd name="adj1" fmla="val 78203"/>
              <a:gd name="adj2" fmla="val 16418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1571760" y="1857240"/>
                <a:ext cx="10666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Box 34"/>
          <p:cNvSpPr/>
          <p:nvPr/>
        </p:nvSpPr>
        <p:spPr>
          <a:xfrm>
            <a:off x="3647520" y="1357200"/>
            <a:ext cx="37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одальная лог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549-9508-4A94-990C-7F25C5F4E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43120" y="142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Семантика 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-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9800" y="4500720"/>
                <a:ext cx="64404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∃</m:t>
                        </m:r>
                        <m:r>
                          <m:t xml:space="preserve">x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⊆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∀</m:t>
                        </m:r>
                        <m:r>
                          <m:t xml:space="preserve">x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⊆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9" name="Group 34"/>
          <p:cNvGrpSpPr/>
          <p:nvPr/>
        </p:nvGrpSpPr>
        <p:grpSpPr>
          <a:xfrm>
            <a:off x="928800" y="3857760"/>
            <a:ext cx="1357200" cy="609480"/>
            <a:chOff x="928800" y="3857760"/>
            <a:chExt cx="1357200" cy="609480"/>
          </a:xfrm>
        </p:grpSpPr>
        <p:sp>
          <p:nvSpPr>
            <p:cNvPr id="230" name="AutoShape 34"/>
            <p:cNvSpPr/>
            <p:nvPr/>
          </p:nvSpPr>
          <p:spPr>
            <a:xfrm>
              <a:off x="928800" y="3857760"/>
              <a:ext cx="1357200" cy="609480"/>
            </a:xfrm>
            <a:prstGeom prst="wedgeRoundRectCallout">
              <a:avLst>
                <a:gd name="adj1" fmla="val 81745"/>
                <a:gd name="adj2" fmla="val 75236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5"/>
                <p:cNvSpPr txBox="1"/>
                <p:nvPr/>
              </p:nvSpPr>
              <p:spPr>
                <a:xfrm>
                  <a:off x="1013400" y="4000680"/>
                  <a:ext cx="12668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SF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142920" y="1571760"/>
                <a:ext cx="403848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TextBox 33"/>
          <p:cNvSpPr/>
          <p:nvPr/>
        </p:nvSpPr>
        <p:spPr>
          <a:xfrm>
            <a:off x="1152360" y="85716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ванторы втор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41"/>
          <p:cNvGrpSpPr/>
          <p:nvPr/>
        </p:nvGrpSpPr>
        <p:grpSpPr>
          <a:xfrm>
            <a:off x="4643280" y="1214280"/>
            <a:ext cx="4286520" cy="3071880"/>
            <a:chOff x="4643280" y="1214280"/>
            <a:chExt cx="4286520" cy="3071880"/>
          </a:xfrm>
        </p:grpSpPr>
        <p:sp>
          <p:nvSpPr>
            <p:cNvPr id="235" name="Oval 35"/>
            <p:cNvSpPr/>
            <p:nvPr/>
          </p:nvSpPr>
          <p:spPr>
            <a:xfrm>
              <a:off x="4643280" y="1214280"/>
              <a:ext cx="4286520" cy="30718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36"/>
            <p:cNvSpPr/>
            <p:nvPr/>
          </p:nvSpPr>
          <p:spPr>
            <a:xfrm>
              <a:off x="4785840" y="1642680"/>
              <a:ext cx="2214720" cy="2000520"/>
            </a:xfrm>
            <a:prstGeom prst="ellipse">
              <a:avLst/>
            </a:prstGeom>
            <a:solidFill>
              <a:srgbClr val="d6d6f5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6"/>
                <p:cNvSpPr txBox="1"/>
                <p:nvPr/>
              </p:nvSpPr>
              <p:spPr>
                <a:xfrm>
                  <a:off x="4928760" y="2214360"/>
                  <a:ext cx="18439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TextBox 38"/>
            <p:cNvSpPr/>
            <p:nvPr/>
          </p:nvSpPr>
          <p:spPr>
            <a:xfrm>
              <a:off x="6147000" y="149976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8"/>
                <p:cNvSpPr txBox="1"/>
                <p:nvPr/>
              </p:nvSpPr>
              <p:spPr>
                <a:xfrm>
                  <a:off x="6715080" y="3071880"/>
                  <a:ext cx="19882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∉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TextBox 40"/>
            <p:cNvSpPr/>
            <p:nvPr/>
          </p:nvSpPr>
          <p:spPr>
            <a:xfrm>
              <a:off x="7789320" y="185724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7-10-17T20:19:27Z</dcterms:modified>
  <cp:revision>282</cp:revision>
  <dc:subject/>
  <dc:title>Агенты, среды и проектирование программного обеспечения</dc:title>
</cp:coreProperties>
</file>